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6804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6804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15B60-AF73-48E4-B4DC-89A4130ADBF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7774E-54DC-46CB-8F92-3C63A9E21850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4B0B5-0014-4536-8DE7-A69460224B2B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CDB76-1F1B-43F5-BFD7-F3DC103E3FFB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5440" y="85680"/>
            <a:ext cx="9028080" cy="60897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4"/>
          <p:cNvSpPr/>
          <p:nvPr/>
        </p:nvSpPr>
        <p:spPr>
          <a:xfrm>
            <a:off x="698400" y="4749840"/>
            <a:ext cx="78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The Practice of Statistics, 5th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Starnes, Tabor, Yates, Mo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6315480" y="6357960"/>
            <a:ext cx="27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Bedford Freeman Worth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542880" y="731880"/>
            <a:ext cx="4449960" cy="5187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7f7f7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7f7f7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46639-FC18-49C4-A8FC-53B60E6671F5}" type="slidenum">
              <a:rPr b="0" lang="en-US" sz="1200" spc="-1" strike="noStrike">
                <a:solidFill>
                  <a:srgbClr val="7f7f7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22280" y="1442880"/>
            <a:ext cx="4473720" cy="398880"/>
            <a:chOff x="422280" y="1442880"/>
            <a:chExt cx="4473720" cy="398880"/>
          </a:xfrm>
        </p:grpSpPr>
        <p:pic>
          <p:nvPicPr>
            <p:cNvPr id="118" name="Picture 3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565200" y="1491480"/>
              <a:ext cx="43308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4"/>
            <p:cNvSpPr/>
            <p:nvPr/>
          </p:nvSpPr>
          <p:spPr>
            <a:xfrm>
              <a:off x="422280" y="1442880"/>
              <a:ext cx="26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In the Next Secti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C935A-AC8D-4402-933A-1F1EFA272E05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17600" y="24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</a:rPr>
              <a:t>Looking Ahe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5E934-FBED-435E-B544-199EAEA6D9A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7BA0A-64D5-46F2-A447-7A935C71000E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80440" y="947880"/>
            <a:ext cx="8406360" cy="398880"/>
            <a:chOff x="280440" y="947880"/>
            <a:chExt cx="8406360" cy="398880"/>
          </a:xfrm>
        </p:grpSpPr>
        <p:pic>
          <p:nvPicPr>
            <p:cNvPr id="246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5"/>
            <p:cNvSpPr/>
            <p:nvPr/>
          </p:nvSpPr>
          <p:spPr>
            <a:xfrm>
              <a:off x="280440" y="947880"/>
              <a:ext cx="25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Learning Obje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382680" y="136836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fter this sect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42959-8042-4939-8839-BB2BA40950EB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313560" y="947880"/>
            <a:ext cx="8373240" cy="398880"/>
            <a:chOff x="313560" y="947880"/>
            <a:chExt cx="8373240" cy="398880"/>
          </a:xfrm>
        </p:grpSpPr>
        <p:pic>
          <p:nvPicPr>
            <p:cNvPr id="292" name="Picture 6" descr="blue-paper-cardstock-texture.jpeg"/>
            <p:cNvPicPr/>
            <p:nvPr/>
          </p:nvPicPr>
          <p:blipFill>
            <a:blip r:embed="rId3"/>
            <a:stretch/>
          </p:blipFill>
          <p:spPr>
            <a:xfrm>
              <a:off x="457200" y="996480"/>
              <a:ext cx="8229600" cy="3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5"/>
            <p:cNvSpPr/>
            <p:nvPr/>
          </p:nvSpPr>
          <p:spPr>
            <a:xfrm>
              <a:off x="313560" y="947880"/>
              <a:ext cx="22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elvetica Neue Bold Condensed"/>
                </a:rPr>
                <a:t>Section Summ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8"/>
          <p:cNvSpPr/>
          <p:nvPr/>
        </p:nvSpPr>
        <p:spPr>
          <a:xfrm>
            <a:off x="403920" y="1368360"/>
            <a:ext cx="40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n this section, we learned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671480" y="2390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lue-paper-cardstock-texture.jpeg"/>
          <p:cNvPicPr/>
          <p:nvPr/>
        </p:nvPicPr>
        <p:blipFill>
          <a:blip r:embed="rId4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CA68E-0FBA-4923-B390-D8DAC86F7049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2"/>
          <p:cNvSpPr/>
          <p:nvPr/>
        </p:nvSpPr>
        <p:spPr>
          <a:xfrm>
            <a:off x="457200" y="744480"/>
            <a:ext cx="8229600" cy="0"/>
          </a:xfrm>
          <a:prstGeom prst="line">
            <a:avLst/>
          </a:prstGeom>
          <a:ln w="1260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blue-paper-cardstock-texture.jpeg"/>
          <p:cNvPicPr/>
          <p:nvPr/>
        </p:nvPicPr>
        <p:blipFill>
          <a:blip r:embed="rId3"/>
          <a:stretch/>
        </p:blipFill>
        <p:spPr>
          <a:xfrm>
            <a:off x="-7920" y="6396120"/>
            <a:ext cx="9178920" cy="4730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42480" y="6497640"/>
            <a:ext cx="27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The Practice of Statistics, 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Helvetica Neue Light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Helvetica Neue Light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8423280" y="649764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C803E-B8F8-4BC0-9F10-BC5E6DAA6F4A}" type="slidenum">
              <a:rPr b="0" lang="en-US" sz="12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57200" y="9680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7570800" y="3019320"/>
            <a:ext cx="1374840" cy="299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2"/>
          <a:stretch/>
        </p:blipFill>
        <p:spPr>
          <a:xfrm>
            <a:off x="7972560" y="3895560"/>
            <a:ext cx="973080" cy="21211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98400" y="906120"/>
            <a:ext cx="547056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 Neue Bold Condensed"/>
                <a:ea typeface="Helvetica Neue Bold Condensed"/>
              </a:rPr>
              <a:t>Exploring Dat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8400" y="2368440"/>
            <a:ext cx="547056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Introdu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Data Analysis: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Bold Condensed"/>
                <a:ea typeface="Helvetica Neue Bold Condensed"/>
              </a:rPr>
              <a:t>Making Sense of Dat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36400" y="2060280"/>
            <a:ext cx="81504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DENTIFY the individuals and variables in a set of dat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CLASSIFY variables as categorical or quantitativ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94788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Statistics</a:t>
            </a:r>
            <a:r>
              <a:rPr b="1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he science of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Data Analysi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is the process of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organiz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display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summarizing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Helvetica Neue"/>
              </a:rPr>
              <a:t>asking questions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about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1787400" y="2548080"/>
            <a:ext cx="5411880" cy="1618560"/>
          </a:xfrm>
          <a:prstGeom prst="rect">
            <a:avLst/>
          </a:prstGeom>
          <a:solidFill>
            <a:srgbClr val="c7e1a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bjects described by a set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ny characteristic of an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457200" y="4916520"/>
            <a:ext cx="3695760" cy="1313640"/>
          </a:xfrm>
          <a:prstGeom prst="rect">
            <a:avLst/>
          </a:prstGeom>
          <a:solidFill>
            <a:srgbClr val="d8d3d9"/>
          </a:soli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Categorica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laces an individual into one of several groups or categ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4640400" y="4924440"/>
            <a:ext cx="4046400" cy="1313640"/>
          </a:xfrm>
          <a:prstGeom prst="rect">
            <a:avLst/>
          </a:prstGeom>
          <a:solidFill>
            <a:srgbClr val="d4e5f7"/>
          </a:soli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Quantitative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akes numerical values for which it makes sense to find 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Straight Arrow Connector 7"/>
          <p:cNvCxnSpPr>
            <a:stCxn id="547" idx="2"/>
            <a:endCxn id="548" idx="0"/>
          </p:cNvCxnSpPr>
          <p:nvPr/>
        </p:nvCxnSpPr>
        <p:spPr>
          <a:xfrm flipH="1">
            <a:off x="2304360" y="4179960"/>
            <a:ext cx="2189880" cy="73728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  <p:cxnSp>
        <p:nvCxnSpPr>
          <p:cNvPr id="551" name="Straight Arrow Connector 9"/>
          <p:cNvCxnSpPr>
            <a:stCxn id="547" idx="2"/>
            <a:endCxn id="549" idx="0"/>
          </p:cNvCxnSpPr>
          <p:nvPr/>
        </p:nvCxnSpPr>
        <p:spPr>
          <a:xfrm>
            <a:off x="4494240" y="4179960"/>
            <a:ext cx="2170800" cy="74520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6840" y="966600"/>
            <a:ext cx="833436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1" lang="en-US" sz="2000" spc="-1" strike="noStrike">
                <a:solidFill>
                  <a:srgbClr val="800000"/>
                </a:solidFill>
                <a:latin typeface="Helvetica Neue"/>
              </a:rPr>
              <a:t>variable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ly takes on many different values.  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interested in how often a variable takes on each value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1290600" y="1928880"/>
            <a:ext cx="6418440" cy="1008720"/>
          </a:xfrm>
          <a:prstGeom prst="rect">
            <a:avLst/>
          </a:prstGeom>
          <a:solidFill>
            <a:srgbClr val="c7e1ab"/>
          </a:solidFill>
          <a:ln w="9360">
            <a:solidFill>
              <a:srgbClr val="7b8b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ells us what values a variable takes and how often it takes thos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rcRect l="15613" t="9771" r="5669" b="5063"/>
          <a:stretch/>
        </p:blipFill>
        <p:spPr>
          <a:xfrm>
            <a:off x="969840" y="3247920"/>
            <a:ext cx="1633680" cy="1947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"/>
          <p:cNvPicPr/>
          <p:nvPr/>
        </p:nvPicPr>
        <p:blipFill>
          <a:blip r:embed="rId2"/>
          <a:srcRect l="18669" t="9757" r="6156" b="5129"/>
          <a:stretch/>
        </p:blipFill>
        <p:spPr>
          <a:xfrm>
            <a:off x="2622600" y="3247920"/>
            <a:ext cx="1679400" cy="1947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3"/>
          <a:srcRect l="17781" t="9771" r="5502" b="5063"/>
          <a:stretch/>
        </p:blipFill>
        <p:spPr>
          <a:xfrm>
            <a:off x="4321080" y="3247920"/>
            <a:ext cx="1795680" cy="1947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4"/>
          <a:srcRect l="6895" t="19923" r="0" b="0"/>
          <a:stretch/>
        </p:blipFill>
        <p:spPr>
          <a:xfrm>
            <a:off x="5251320" y="5149800"/>
            <a:ext cx="3708360" cy="1251000"/>
          </a:xfrm>
          <a:prstGeom prst="rect">
            <a:avLst/>
          </a:prstGeom>
          <a:ln w="0">
            <a:noFill/>
          </a:ln>
        </p:spPr>
      </p:pic>
      <p:sp>
        <p:nvSpPr>
          <p:cNvPr id="558" name="Curved Down Arrow 8"/>
          <p:cNvSpPr/>
          <p:nvPr/>
        </p:nvSpPr>
        <p:spPr>
          <a:xfrm rot="3394200">
            <a:off x="5983560" y="3772800"/>
            <a:ext cx="2525760" cy="1041480"/>
          </a:xfrm>
          <a:custGeom>
            <a:avLst/>
            <a:gdLst>
              <a:gd name="textAreaLeft" fmla="*/ 533520 w 2525760"/>
              <a:gd name="textAreaRight" fmla="*/ 1861920 w 2525760"/>
              <a:gd name="textAreaTop" fmla="*/ 139320 h 1041480"/>
              <a:gd name="textAreaBottom" fmla="*/ 902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7" y="0"/>
                </a:lnTo>
                <a:arcTo wR="9130" hR="21600" stAng="-5400000" swAng="3292283"/>
                <a:lnTo>
                  <a:pt x="21221" y="15443"/>
                </a:lnTo>
                <a:lnTo>
                  <a:pt x="19374" y="21600"/>
                </a:lnTo>
                <a:lnTo>
                  <a:pt x="16768" y="15443"/>
                </a:lnTo>
                <a:lnTo>
                  <a:pt x="17881" y="15443"/>
                </a:lnTo>
                <a:arcTo wR="9130" hR="21600" stAng="-2107717" swAng="-3113891"/>
                <a:lnTo>
                  <a:pt x="10244" y="161"/>
                </a:lnTo>
                <a:arcTo wR="9130" hR="21600" stAng="-5578392" swAng="-5221608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392"/>
                <a:lnTo>
                  <a:pt x="10244" y="161"/>
                </a:lnTo>
                <a:arcTo wR="9130" hR="21600" stAng="-5578392" swAng="-5221608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2004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457200" y="5443560"/>
            <a:ext cx="2197080" cy="520200"/>
          </a:xfrm>
          <a:prstGeom prst="rect">
            <a:avLst/>
          </a:prstGeom>
          <a:gradFill rotWithShape="0">
            <a:gsLst>
              <a:gs pos="0">
                <a:srgbClr val="f4f1f5"/>
              </a:gs>
              <a:gs pos="100000">
                <a:srgbClr val="d9ccdc"/>
              </a:gs>
            </a:gsLst>
            <a:lin ang="5400000"/>
          </a:gra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 of Inter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5500800" y="5251320"/>
            <a:ext cx="1604880" cy="520200"/>
          </a:xfrm>
          <a:prstGeom prst="rect">
            <a:avLst/>
          </a:prstGeom>
          <a:gradFill rotWithShape="0">
            <a:gsLst>
              <a:gs pos="0">
                <a:srgbClr val="f4f1f5"/>
              </a:gs>
              <a:gs pos="100000">
                <a:srgbClr val="d9ccdc"/>
              </a:gs>
            </a:gsLst>
            <a:lin ang="5400000"/>
          </a:gradFill>
          <a:ln w="9360">
            <a:solidFill>
              <a:srgbClr val="9a8c9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plot of MPG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urved Down Arrow 11"/>
          <p:cNvSpPr/>
          <p:nvPr/>
        </p:nvSpPr>
        <p:spPr>
          <a:xfrm flipH="1" rot="9373200">
            <a:off x="2440080" y="5471640"/>
            <a:ext cx="2024280" cy="595440"/>
          </a:xfrm>
          <a:custGeom>
            <a:avLst/>
            <a:gdLst>
              <a:gd name="textAreaLeft" fmla="*/ 449640 w 2024280"/>
              <a:gd name="textAreaRight" fmla="*/ 1499400 w 20242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09" hR="21600" stAng="10800000" swAng="5400000"/>
                <a:lnTo>
                  <a:pt x="11197" y="0"/>
                </a:lnTo>
                <a:arcTo wR="9609" hR="21600" stAng="-5400000" swAng="3374269"/>
                <a:lnTo>
                  <a:pt x="21201" y="15443"/>
                </a:lnTo>
                <a:lnTo>
                  <a:pt x="20012" y="21600"/>
                </a:lnTo>
                <a:lnTo>
                  <a:pt x="18025" y="15443"/>
                </a:lnTo>
                <a:lnTo>
                  <a:pt x="18819" y="15443"/>
                </a:lnTo>
                <a:arcTo wR="9609" hR="21600" stAng="-2025731" swAng="-3247523"/>
                <a:lnTo>
                  <a:pt x="10403" y="74"/>
                </a:lnTo>
                <a:arcTo wR="9609" hR="21600" stAng="-5526745" swAng="-5273255"/>
                <a:close/>
              </a:path>
              <a:path fill="darkenLess" w="21600" h="21600">
                <a:moveTo>
                  <a:pt x="0" y="21600"/>
                </a:moveTo>
                <a:arcTo wR="9609" hR="21600" stAng="10800000" swAng="5400000"/>
                <a:lnTo>
                  <a:pt x="9609" y="0"/>
                </a:lnTo>
                <a:arcTo wR="9609" hR="21600" stAng="-5400000" swAng="126745"/>
                <a:lnTo>
                  <a:pt x="10403" y="74"/>
                </a:lnTo>
                <a:arcTo wR="9609" hR="21600" stAng="-5526745" swAng="-5273255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4772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6" descr=""/>
          <p:cNvPicPr/>
          <p:nvPr/>
        </p:nvPicPr>
        <p:blipFill>
          <a:blip r:embed="rId1"/>
          <a:srcRect l="6895" t="19923" r="0" b="0"/>
          <a:stretch/>
        </p:blipFill>
        <p:spPr>
          <a:xfrm>
            <a:off x="4878360" y="4092480"/>
            <a:ext cx="413532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31"/>
          <p:cNvGrpSpPr/>
          <p:nvPr/>
        </p:nvGrpSpPr>
        <p:grpSpPr>
          <a:xfrm>
            <a:off x="3703680" y="939960"/>
            <a:ext cx="5016600" cy="1919160"/>
            <a:chOff x="3703680" y="939960"/>
            <a:chExt cx="5016600" cy="1919160"/>
          </a:xfrm>
        </p:grpSpPr>
        <p:pic>
          <p:nvPicPr>
            <p:cNvPr id="565" name="Picture 29" descr=""/>
            <p:cNvPicPr/>
            <p:nvPr/>
          </p:nvPicPr>
          <p:blipFill>
            <a:blip r:embed="rId2"/>
            <a:srcRect l="18669" t="9757" r="6156" b="5129"/>
            <a:stretch/>
          </p:blipFill>
          <p:spPr>
            <a:xfrm>
              <a:off x="5294880" y="939960"/>
              <a:ext cx="16509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30" descr=""/>
            <p:cNvPicPr/>
            <p:nvPr/>
          </p:nvPicPr>
          <p:blipFill>
            <a:blip r:embed="rId3"/>
            <a:srcRect l="17781" t="9771" r="5502" b="5063"/>
            <a:stretch/>
          </p:blipFill>
          <p:spPr>
            <a:xfrm>
              <a:off x="6952320" y="939960"/>
              <a:ext cx="1767960" cy="19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4" descr=""/>
            <p:cNvPicPr/>
            <p:nvPr/>
          </p:nvPicPr>
          <p:blipFill>
            <a:blip r:embed="rId4"/>
            <a:srcRect l="15613" t="9771" r="5669" b="5063"/>
            <a:stretch/>
          </p:blipFill>
          <p:spPr>
            <a:xfrm>
              <a:off x="3703680" y="939960"/>
              <a:ext cx="1603800" cy="19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TextBox 4"/>
          <p:cNvSpPr/>
          <p:nvPr/>
        </p:nvSpPr>
        <p:spPr>
          <a:xfrm>
            <a:off x="606600" y="1401840"/>
            <a:ext cx="2970000" cy="161856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xamine each variable by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Then study relationships among th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4592520" y="3017880"/>
            <a:ext cx="2872080" cy="70380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tart with a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or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9"/>
          <p:cNvCxnSpPr>
            <a:stCxn id="568" idx="3"/>
            <a:endCxn id="569" idx="0"/>
          </p:cNvCxnSpPr>
          <p:nvPr/>
        </p:nvCxnSpPr>
        <p:spPr>
          <a:xfrm>
            <a:off x="3576240" y="2063880"/>
            <a:ext cx="2453400" cy="95472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  <p:pic>
        <p:nvPicPr>
          <p:cNvPr id="571" name="Picture 15" descr=""/>
          <p:cNvPicPr/>
          <p:nvPr/>
        </p:nvPicPr>
        <p:blipFill>
          <a:blip r:embed="rId5"/>
          <a:stretch/>
        </p:blipFill>
        <p:spPr>
          <a:xfrm>
            <a:off x="203040" y="4797360"/>
            <a:ext cx="2200320" cy="146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How to Explor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7"/>
          <p:cNvSpPr/>
          <p:nvPr/>
        </p:nvSpPr>
        <p:spPr>
          <a:xfrm>
            <a:off x="2090880" y="4692600"/>
            <a:ext cx="2600280" cy="703800"/>
          </a:xfrm>
          <a:prstGeom prst="rect">
            <a:avLst/>
          </a:prstGeom>
          <a:solidFill>
            <a:srgbClr val="e0ebf6"/>
          </a:solidFill>
          <a:ln w="9360">
            <a:solidFill>
              <a:srgbClr val="247cd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dd numerical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Straight Arrow Connector 14"/>
          <p:cNvCxnSpPr>
            <a:stCxn id="569" idx="2"/>
            <a:endCxn id="573" idx="0"/>
          </p:cNvCxnSpPr>
          <p:nvPr/>
        </p:nvCxnSpPr>
        <p:spPr>
          <a:xfrm flipH="1">
            <a:off x="3390120" y="3725640"/>
            <a:ext cx="2639160" cy="967320"/>
          </a:xfrm>
          <a:prstGeom prst="straightConnector1">
            <a:avLst/>
          </a:prstGeom>
          <a:ln w="38160">
            <a:solidFill>
              <a:srgbClr val="7f8fa9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10"/>
          <p:cNvSpPr/>
          <p:nvPr/>
        </p:nvSpPr>
        <p:spPr>
          <a:xfrm>
            <a:off x="620640" y="1152360"/>
            <a:ext cx="4419720" cy="267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d0ff"/>
              </a:gs>
              <a:gs pos="100000">
                <a:srgbClr val="519ee2"/>
              </a:gs>
            </a:gsLst>
            <a:lin ang="5400000"/>
          </a:gradFill>
          <a:ln w="9360">
            <a:solidFill>
              <a:srgbClr val="5d9ac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2109960" y="2031840"/>
            <a:ext cx="2700000" cy="1460520"/>
          </a:xfrm>
          <a:prstGeom prst="ellipse">
            <a:avLst/>
          </a:prstGeom>
          <a:gradFill rotWithShape="0">
            <a:gsLst>
              <a:gs pos="0">
                <a:srgbClr val="bcccea"/>
              </a:gs>
              <a:gs pos="100000">
                <a:srgbClr val="798daf"/>
              </a:gs>
            </a:gsLst>
            <a:lin ang="5400000"/>
          </a:gradFill>
          <a:ln w="9360">
            <a:solidFill>
              <a:srgbClr val="7b8b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Neue"/>
                <a:ea typeface="Helvetica Neue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urved Down Arrow 13"/>
          <p:cNvSpPr/>
          <p:nvPr/>
        </p:nvSpPr>
        <p:spPr>
          <a:xfrm rot="1107600">
            <a:off x="4019040" y="1941480"/>
            <a:ext cx="2951280" cy="860400"/>
          </a:xfrm>
          <a:custGeom>
            <a:avLst/>
            <a:gdLst>
              <a:gd name="textAreaLeft" fmla="*/ 657000 w 2951280"/>
              <a:gd name="textAreaRight" fmla="*/ 2186640 w 29512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4" y="0"/>
                </a:lnTo>
                <a:arcTo wR="9619" hR="21600" stAng="-5400000" swAng="3593691"/>
                <a:lnTo>
                  <a:pt x="21295" y="16200"/>
                </a:lnTo>
                <a:lnTo>
                  <a:pt x="20026" y="21600"/>
                </a:lnTo>
                <a:lnTo>
                  <a:pt x="18146" y="16200"/>
                </a:lnTo>
                <a:lnTo>
                  <a:pt x="18933" y="16200"/>
                </a:lnTo>
                <a:arcTo wR="9619" hR="21600" stAng="-1806309" swAng="-3467990"/>
                <a:lnTo>
                  <a:pt x="10407" y="73"/>
                </a:lnTo>
                <a:arcTo wR="9619" hR="21600" stAng="-5525701" swAng="-527429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01"/>
                <a:lnTo>
                  <a:pt x="10407" y="73"/>
                </a:lnTo>
                <a:arcTo wR="9619" hR="21600" stAng="-5525701" swAng="-5274299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4290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5"/>
          <p:cNvSpPr/>
          <p:nvPr/>
        </p:nvSpPr>
        <p:spPr>
          <a:xfrm>
            <a:off x="5284800" y="3247920"/>
            <a:ext cx="30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Collect data 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from a representative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6"/>
          <p:cNvSpPr/>
          <p:nvPr/>
        </p:nvSpPr>
        <p:spPr>
          <a:xfrm>
            <a:off x="4809960" y="4902120"/>
            <a:ext cx="27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Perform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Data Analysis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, keeping probability in mi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8"/>
          <p:cNvSpPr/>
          <p:nvPr/>
        </p:nvSpPr>
        <p:spPr>
          <a:xfrm>
            <a:off x="1455840" y="4133880"/>
            <a:ext cx="31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ake an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Inference 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about the 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urved Down Arrow 19"/>
          <p:cNvSpPr/>
          <p:nvPr/>
        </p:nvSpPr>
        <p:spPr>
          <a:xfrm rot="6610200">
            <a:off x="6975360" y="4735440"/>
            <a:ext cx="2263680" cy="860400"/>
          </a:xfrm>
          <a:custGeom>
            <a:avLst/>
            <a:gdLst>
              <a:gd name="textAreaLeft" fmla="*/ 485280 w 2263680"/>
              <a:gd name="textAreaRight" fmla="*/ 1671120 w 22636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61" hR="21600" stAng="10800000" swAng="5400000"/>
                <a:lnTo>
                  <a:pt x="11314" y="0"/>
                </a:lnTo>
                <a:arcTo wR="9261" hR="21600" stAng="-5400000" swAng="3536504"/>
                <a:lnTo>
                  <a:pt x="21306" y="16200"/>
                </a:lnTo>
                <a:lnTo>
                  <a:pt x="19548" y="21600"/>
                </a:lnTo>
                <a:lnTo>
                  <a:pt x="17201" y="16200"/>
                </a:lnTo>
                <a:lnTo>
                  <a:pt x="18227" y="16200"/>
                </a:lnTo>
                <a:arcTo wR="9261" hR="21600" stAng="-1863496" swAng="-3372243"/>
                <a:lnTo>
                  <a:pt x="10287" y="133"/>
                </a:lnTo>
                <a:arcTo wR="9261" hR="21600" stAng="-5564260" swAng="-5235740"/>
                <a:close/>
              </a:path>
              <a:path fill="darkenLess" w="21600" h="21600">
                <a:moveTo>
                  <a:pt x="0" y="21600"/>
                </a:moveTo>
                <a:arcTo wR="9261" hR="21600" stAng="10800000" swAng="5400000"/>
                <a:lnTo>
                  <a:pt x="9261" y="0"/>
                </a:lnTo>
                <a:arcTo wR="9261" hR="21600" stAng="-5400000" swAng="164260"/>
                <a:lnTo>
                  <a:pt x="10287" y="133"/>
                </a:lnTo>
                <a:arcTo wR="9261" hR="21600" stAng="-5564260" swAng="-5235740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20388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urved Down Arrow 20"/>
          <p:cNvSpPr/>
          <p:nvPr/>
        </p:nvSpPr>
        <p:spPr>
          <a:xfrm rot="11846400">
            <a:off x="1888560" y="5700240"/>
            <a:ext cx="2547720" cy="679680"/>
          </a:xfrm>
          <a:custGeom>
            <a:avLst/>
            <a:gdLst>
              <a:gd name="textAreaLeft" fmla="*/ 573120 w 2547720"/>
              <a:gd name="textAreaRight" fmla="*/ 1889640 w 2547720"/>
              <a:gd name="textAreaTop" fmla="*/ 91080 h 679680"/>
              <a:gd name="textAreaBottom" fmla="*/ 588600 h 67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20" hR="21600" stAng="10800000" swAng="5400000"/>
                <a:lnTo>
                  <a:pt x="11160" y="0"/>
                </a:lnTo>
                <a:arcTo wR="9720" hR="21600" stAng="-5400000" swAng="3609232"/>
                <a:lnTo>
                  <a:pt x="21291" y="16200"/>
                </a:lnTo>
                <a:lnTo>
                  <a:pt x="20160" y="21600"/>
                </a:lnTo>
                <a:lnTo>
                  <a:pt x="18411" y="16200"/>
                </a:lnTo>
                <a:lnTo>
                  <a:pt x="19131" y="16200"/>
                </a:lnTo>
                <a:arcTo wR="9720" hR="21600" stAng="-1790768" swAng="-3494367"/>
                <a:lnTo>
                  <a:pt x="10440" y="59"/>
                </a:lnTo>
                <a:arcTo wR="9720" hR="21600" stAng="-5514864" swAng="-5285136"/>
                <a:close/>
              </a:path>
              <a:path fill="darkenLess" w="21600" h="21600">
                <a:moveTo>
                  <a:pt x="0" y="21600"/>
                </a:moveTo>
                <a:arcTo wR="9720" hR="21600" stAng="10800000" swAng="5400000"/>
                <a:lnTo>
                  <a:pt x="9720" y="0"/>
                </a:lnTo>
                <a:arcTo wR="9720" hR="21600" stAng="-5400000" swAng="114864"/>
                <a:lnTo>
                  <a:pt x="10440" y="59"/>
                </a:lnTo>
                <a:arcTo wR="9720" hR="21600" stAng="-5514864" swAng="-5285136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5156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21"/>
          <p:cNvSpPr/>
          <p:nvPr/>
        </p:nvSpPr>
        <p:spPr>
          <a:xfrm rot="15730800">
            <a:off x="-455760" y="2995560"/>
            <a:ext cx="2548080" cy="690480"/>
          </a:xfrm>
          <a:custGeom>
            <a:avLst/>
            <a:gdLst>
              <a:gd name="textAreaLeft" fmla="*/ 572040 w 2548080"/>
              <a:gd name="textAreaRight" fmla="*/ 1889640 w 2548080"/>
              <a:gd name="textAreaTop" fmla="*/ 92520 h 690480"/>
              <a:gd name="textAreaBottom" fmla="*/ 597960 h 690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03" hR="21600" stAng="10800000" swAng="5400000"/>
                <a:lnTo>
                  <a:pt x="11166" y="0"/>
                </a:lnTo>
                <a:arcTo wR="9703" hR="21600" stAng="-5400000" swAng="3606556"/>
                <a:lnTo>
                  <a:pt x="21292" y="16200"/>
                </a:lnTo>
                <a:lnTo>
                  <a:pt x="20137" y="21600"/>
                </a:lnTo>
                <a:lnTo>
                  <a:pt x="18365" y="16200"/>
                </a:lnTo>
                <a:lnTo>
                  <a:pt x="19097" y="16200"/>
                </a:lnTo>
                <a:arcTo wR="9703" hR="21600" stAng="-1793444" swAng="-3489847"/>
                <a:lnTo>
                  <a:pt x="10434" y="61"/>
                </a:lnTo>
                <a:arcTo wR="9703" hR="21600" stAng="-5516709" swAng="-5283291"/>
                <a:close/>
              </a:path>
              <a:path fill="darkenLess" w="21600" h="21600">
                <a:moveTo>
                  <a:pt x="0" y="21600"/>
                </a:moveTo>
                <a:arcTo wR="9703" hR="21600" stAng="10800000" swAng="5400000"/>
                <a:lnTo>
                  <a:pt x="9703" y="0"/>
                </a:lnTo>
                <a:arcTo wR="9703" hR="21600" stAng="-5400000" swAng="116709"/>
                <a:lnTo>
                  <a:pt x="10434" y="61"/>
                </a:lnTo>
                <a:arcTo wR="9703" hR="21600" stAng="-5516709" swAng="-5283291"/>
                <a:close/>
              </a:path>
            </a:pathLst>
          </a:custGeom>
          <a:gradFill rotWithShape="0">
            <a:gsLst>
              <a:gs pos="0">
                <a:srgbClr val="a1b3fb"/>
              </a:gs>
              <a:gs pos="100000">
                <a:srgbClr val="3b60bb"/>
              </a:gs>
            </a:gsLst>
            <a:lin ang="11268000"/>
          </a:gradFill>
          <a:ln w="9360">
            <a:solidFill>
              <a:srgbClr val="4663a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From Data Analysis to I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47360" y="1868040"/>
            <a:ext cx="79390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set contains information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individual, data give values for one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ego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variable describes what values it takes and how often it takes them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150000"/>
              </a:lnSpc>
              <a:buClr>
                <a:srgbClr val="629dd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s the process of making a conclusion about a population based on a sample set of data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ata Analysis: Making Sens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6:11:24Z</dcterms:created>
  <dc:creator>Sandy Hinding</dc:creator>
  <dc:description/>
  <dc:language>en-US</dc:language>
  <cp:lastModifiedBy>test</cp:lastModifiedBy>
  <dcterms:modified xsi:type="dcterms:W3CDTF">2014-04-22T03:16:16Z</dcterms:modified>
  <cp:revision>80</cp:revision>
  <dc:subject/>
  <dc:title>Slide 1</dc:title>
</cp:coreProperties>
</file>